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F95-65A3-45E6-BCF9-0BBC3BA6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3A5-C752-4A82-BC03-E165A64E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424-1CAF-4C62-AD04-21FFFF72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75D-C508-421A-94DC-5E017602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81B-22C1-4D06-B02A-A876D4E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1CC-655A-42F8-BAA7-BAF97E3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352-B205-4AB6-A765-3196521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453-CF8E-4C7B-B209-50285D67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794-9138-4B6E-9AA8-87964E48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A7A-1DDB-49ED-B29B-128C5CA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CFC-E82A-447A-B0C9-F38DE02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939-4EA6-441E-A230-7F6ADA0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5F8-C0A1-43F3-BF69-8B717371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VERNMENTS of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2819520"/>
            <a:ext cx="1665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80,000 slaves in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captured during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n’t vote or choos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ed permission to have a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aid and could buy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farmhands, did household chores, metalwork, and made po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619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N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rules over a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was head of the most powerful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was passed on to the oldest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relied on nobles to defend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3434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LIG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people hold the power over a large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he government –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-states grew to quickly – food shortages, discontent, poor farmers lost land to wealthy and becam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8932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ader who seizes power by force and rules single handedly {dictato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supported, laws are reformed, poor are aided, and taught the citizens by uniting behind a leader they could gain power and mak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 can become harsh and gre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521160"/>
            <a:ext cx="44197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make decisions was in the hands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proposed new laws, all citizens met every 9 days to vote on laws. Law courts had jurors who made decisions, all citizens rich or poor we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itizens liked sharing power, especially the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K CITIZE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370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ULT MALE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over 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ather had to have been a citizen and mother’s father had to have been a citizen for you to be a cit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5,000 citizens in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857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VES and CHILDREN of CITIZ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5,000 women and children of citizens in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no politic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uld not own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17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,000 foreigners in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from other city-states 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n’t vote or hold public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rotected by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usually traders, shopkeepers, craftsmen, or moneyl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7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5:48:14Z</dcterms:created>
  <dc:creator>gehadde</dc:creator>
  <dc:description/>
  <dc:language>en-US</dc:language>
  <cp:lastModifiedBy>gehadde</cp:lastModifiedBy>
  <dcterms:modified xsi:type="dcterms:W3CDTF">2012-05-01T13:12:06Z</dcterms:modified>
  <cp:revision>24</cp:revision>
  <dc:subject/>
  <dc:title>WARM-UP: #4</dc:title>
</cp:coreProperties>
</file>